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3119-AB39-4560-AB5F-6120A69F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043E-92E6-4CC5-875B-46E60122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F3F0-38F8-4CFC-A15A-5A4A891A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699E-9239-4E9C-A3AB-A92B1183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486B-6291-4BA2-B8F9-A5CE57F5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ABE8-72E7-436D-BD58-BF8006FF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67DB-52D8-4147-A856-DF75AFD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8985-FB0E-4E14-8483-74D088B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5374-7A90-4CFA-A517-AA2F0703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F44C-18E3-4162-849F-243A88DB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00E7-61B1-469B-802B-BD9CC52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61BB-3C8C-424B-8EEE-A17ED817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9727-00F0-4F83-A98D-0046B0F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52ED-58C7-4632-9824-E89A57DB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4EC5-979E-4EB2-8F27-48D1B0D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9827-1DAC-4670-9802-6810FEDF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575F-5C35-436C-8E3E-09C10E1A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C0693-E7BB-4DA3-811F-EC6948D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1E58-1836-47D5-B916-E0553AA6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0CBE-CC5A-4748-A5C7-349929F5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D4F8-CBDD-42BE-9A3F-6E914A09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A6A0-CCB6-417C-BC01-FAE9EF7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68F8-0C98-42C3-958C-2CB24C1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5BD2-2113-400D-B53A-D46F08E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77D-A00C-43B0-8C8C-EB0046EE3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12FA-F9D6-4ADA-8DA5-F6024620D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dau combustibilii c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ldur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obţine lucru mecanic atunci când un gaz se dilată în cilindrul cu piston mo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4T06:30:39Z</dcterms:modified>
  <cp:revision>7</cp:revision>
  <dc:subject/>
  <dc:title>Petrolul mişcă omenirea</dc:title>
</cp:coreProperties>
</file>